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754-2B57-497A-82A6-34083B893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A169-78ED-4E69-B677-2FD7EF639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9A3-A45C-49B1-831B-84ED9805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2DD-9849-4CB0-A1FE-605B6BFE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88D-2A51-4187-98E7-805B356A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249-C558-4B63-ABE7-FC965150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D7A-871C-4750-BC6E-D17773C1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651-25C4-4685-9E31-D101EDF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3F9E-D5BC-4BB9-BA4F-B26AB76D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45C9-3E97-4FF4-8F11-F157FFF5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50B-F3E6-4DFF-A1AA-1CE5F41C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5FD5-3065-4B8A-84D0-4E806648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AFD9-6E65-45E1-9B69-A31DB461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0EB-4DAB-437B-A7E4-50C575B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113-E55D-412F-BDA5-1A22BB1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623A-E90D-4481-B955-FB72EAB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B5F2-6F73-4815-9EE5-7C20957A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3E94-0F5F-496A-9DD1-82D64964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0A09-7673-4F61-8F7A-750BF851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60B1-426E-4B93-AF29-9DC93F25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7356-F65C-4A7C-82FB-E3EB4FD4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6AD9-E30C-4232-91AB-FBF9518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E41B-7644-4D2F-871D-CB167323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71DA-DE56-40F0-A09D-E4EF755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074-EE96-469F-B37E-88E2B57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0BF6-78F1-4F64-A100-FBA4511E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2EAC-1D55-4391-B3CF-4084EC6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3765-C3CB-4885-949C-391A21A1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C3D8-4DF4-469E-BAB1-7A68D982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5B7F-DA91-4E6B-A19B-5D904F86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5BD6-2223-422A-A27D-DE230BD5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2E4E-FA63-419D-A7A6-E17D3802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D707-A315-4B68-A5A1-1D9B1B33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B909-2AE0-4A12-92AF-B38FD02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2EF56-F603-4346-8771-EBEC1CB4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DA1-333C-43C2-8326-DCBD59AD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AD88-9F2E-4E31-96FA-1A330167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2EE1F-C36A-4431-B1AD-C3332746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EAC6-8EE4-40F8-8BC4-83A5EC19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E6BB4-F4F7-49DB-8A3F-9A4DD42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DCDF-69E4-4580-B1EB-26043C2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170C-9DDE-4801-B40E-0C34790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111F-FE2B-4CEF-A00B-AC60422D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1243-A139-4529-868C-CA071655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529A-39ED-49A5-9BEA-61E6F018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40749-E286-4EB4-A9E0-6ECD51E6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96F-E093-4CC5-BA4B-FC296FEA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540A-A617-44A0-9E73-E888DA14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B503-BBA2-4439-9999-D0C2468D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8304-19F7-4E7C-8783-537C5A4C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3BC05-14DB-4D05-928B-3747F37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429C-FCA3-47E6-99DE-48F8E534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E5497-C2EB-4A4B-B9CB-0CCCF95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CEF4-784C-48EF-B625-2B76EFA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02645-43DF-4612-82F0-631D756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32317-449E-4427-803E-9CB843D1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CB63-48A9-4387-A98B-EE520691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939-F1A7-497F-BD89-3E74DA8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0BF7-E027-4C45-882F-29D2D6D3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81B0-15FB-4733-BDAD-534F83C5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2CF8-FE02-4ECF-9B85-C93A4DCC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FEE7-01C0-4A19-8AEC-A029621E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0F3F-62A4-4894-92E1-437BB06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872FD-6DA0-4F0B-A407-6F891783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62DA-362E-4679-9FD6-AE6C5519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4F4F-5038-4CCC-AE21-D4A26391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A6745-D912-4670-BE87-BD559FB4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E0DC-ADC4-4903-91AD-708FBAC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7EE-049B-4F22-B2A8-FD97FF1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8713-471A-435D-A703-E08A85F4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589F-60C4-42B2-9B01-6C0DE549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3B913-FCB7-4CA6-9A1B-86838514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4AE64-FD88-4F2D-8C1B-7E41C1DE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5A589-00BE-44E6-BC0D-9128163C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7C482-EF1A-46FD-9A5B-D767A06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67E70-96C1-4A59-92EF-BEE62887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0FA9E-2413-4D2D-B6CC-971A8D52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A827C-88A9-473D-83CE-E3A23BC0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240B5-A42A-4D75-9642-71840C2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7DB-66A7-4F96-B7A3-2373DF1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C5561-4EDF-4134-8132-9BC07D83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922FA-7D41-4B96-8935-6FDC5B6C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47853-D6A9-4F85-B66B-B7AE6DCD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4EE7A-0B7E-4216-967B-349C384E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D6AC3-5C10-4EE4-88DE-9F982E28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F1293-DD6B-4990-BBBB-C5B7B14E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4C44-1099-45C0-A4F7-FA8A735F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474F3-D3AA-4D5E-9001-B5CEB1C5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41A62-F239-4B3E-B6F4-DB8FDBB6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1C8CC-88A2-4EB5-BDF7-B245F4D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D76-E18C-408D-A856-F505A489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B55DB-5D62-44C6-9880-A640F5E9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2221-2FD5-4C4A-8E62-92ED871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5708-0EBB-4E17-B4E8-D0C8E11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E398F-1156-45DE-9005-82413FC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7C7B8-6012-4D35-85EA-46DE500B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BE0E9-04C7-43F1-8BBE-BF066456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56E4E-57C0-498A-86EB-F8360D4E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E47-CBAE-4380-B745-11A3FF523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6D4C-B9FE-4FB5-B4A2-8AAF6703017E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902A-E485-4CC1-9ACA-D462D0CA0A98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BEAF-5DCA-43FE-B566-958873143539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39FA-2457-48C6-8686-6E7D7497E592}" type="slidenum">
              <a:rPr b="0" lang="en-US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44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ABD1-BA21-4E5B-BC7D-BB015F3DC6F8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8128-8842-44A5-8A0A-7130F72C19D9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334E-57C3-4E09-BDCB-8C6BED843DFC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F403-EC1F-42B9-8240-CF15796034E6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ectangle 7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236" name="Rectangle 7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9A07-4431-418A-A754-8C9B0980490B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37DD-3FEC-41FD-A4F4-21E49A7C23AC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E88-94B9-47E2-9900-71F24FBD2D1F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6D1-3FEE-45D9-BCB8-32EABA9A17FE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538-5295-41DB-B722-C29AB5401D61}" type="datetime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66DD-76BA-4983-AD33-B0514B2DBCF1}" type="slidenum">
              <a:rPr b="0" lang="en-US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13960" y="162828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КОНЦЕПЦИЯ РАЗВИТИЯ </a:t>
            </a:r>
            <a:r>
              <a:rPr b="1" lang="en-US" sz="2400" spc="-1" strike="noStrike">
                <a:solidFill>
                  <a:srgbClr val="40382d"/>
                </a:solidFill>
                <a:latin typeface="Book Antiqua"/>
              </a:rPr>
              <a:t>Г</a:t>
            </a:r>
            <a:r>
              <a:rPr b="1" lang="en-US" sz="3600" spc="-1" strike="noStrike">
                <a:solidFill>
                  <a:srgbClr val="40382d"/>
                </a:solidFill>
                <a:latin typeface="Book Antiqua"/>
              </a:rPr>
              <a:t>.ВЛАДИКАВКАЗА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19640" y="2997360"/>
            <a:ext cx="2232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05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«5</a:t>
            </a:r>
            <a:r>
              <a:rPr b="1" lang="en-US" sz="5400" spc="-1" strike="noStrike">
                <a:solidFill>
                  <a:srgbClr val="6c271b"/>
                </a:solidFill>
                <a:latin typeface="Century Gothic"/>
              </a:rPr>
              <a:t>x</a:t>
            </a:r>
            <a:r>
              <a:rPr b="1" lang="ru-RU" sz="5400" spc="-1" strike="noStrike">
                <a:solidFill>
                  <a:srgbClr val="6c271b"/>
                </a:solidFill>
                <a:latin typeface="Century Gothic"/>
              </a:rPr>
              <a:t>5»</a:t>
            </a:r>
            <a:endParaRPr b="0" lang="en-US" sz="5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954000" y="4194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достижений за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благодаря которым Владикавказ станет привлекательн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новых микрорайонов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(Московский квартал, Новый город, Северный) </a:t>
            </a:r>
            <a:br>
              <a:rPr sz="2000"/>
            </a:b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Строительство микрорайонов (микрорайоны №31-32, микрорайон в поселке Карца) с развитой инженерной и социальной инфраструктур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3:14:09Z</dcterms:created>
  <dc:creator>Вера</dc:creator>
  <dc:description/>
  <dc:language>en-US</dc:language>
  <cp:lastModifiedBy>Вера</cp:lastModifiedBy>
  <dcterms:modified xsi:type="dcterms:W3CDTF">2013-04-17T07:48:32Z</dcterms:modified>
  <cp:revision>2</cp:revision>
  <dc:subject/>
  <dc:title>Концепция развития г.владикавказа</dc:title>
</cp:coreProperties>
</file>